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1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F376-251F-4ADA-949B-EBA84CA4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6753-91AE-43F9-954E-3207A75F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E4A2-15F0-43B6-813F-AE58B9AD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3240-7941-4DC4-B7C2-2D62CC65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FECBB-8270-4D69-8976-E0143C21EE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ABE8B-B1B3-460D-9C6A-7C2BA7AD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3DFBC-78BC-4CF5-B308-BCABF139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BC349-D251-4519-BE62-815093DF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38263-26DB-4574-914B-4037D50D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26FA6-C09B-45C3-AD5C-0827F222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BB144-76DA-408E-AEC6-9DC7208F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B0C4-C7CE-43C7-B701-E7930714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495FB-C34E-431D-B831-D7DFD448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958EE-CCE2-47D9-89B7-294138F3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A56D2-053E-4128-9427-0B778558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32D8E-0E01-40B2-B7D7-196B7589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6DB38-43B5-40A9-AEC6-8282C7AE7A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92C8-1897-4A92-94E9-E2FDF98C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5B96-ADE6-46A2-84F6-652CCF71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5D20-245E-4E98-A3ED-17B1B2FA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2A98-C5BA-4891-B6CB-1B90D1A2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0981-FB68-47EF-9EB4-4E7CEEB9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CCCC-3F24-4E70-B6EC-8B73CDDE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41E4-4E2E-4470-949C-A56ED5C0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3C54-2572-43D3-B4FD-71A54B3D184D}" type="slidenum">
              <a:rPr b="0" lang="es-MX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584440" y="647712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Magíster en gestión de operacion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DA37-DC10-4CF4-BEF9-6395A7DA62C0}" type="slidenum">
              <a:rPr b="0" lang="es-MX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20464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바탕"/>
              </a:rPr>
              <a:t>Presentación tema de tesis:</a:t>
            </a:r>
            <a:br>
              <a:rPr sz="3000"/>
            </a:br>
            <a:br>
              <a:rPr sz="3000"/>
            </a:br>
            <a:r>
              <a:rPr b="0" i="1" lang="en-US" sz="2800" spc="-1" strike="noStrike">
                <a:solidFill>
                  <a:srgbClr val="000000"/>
                </a:solidFill>
                <a:latin typeface="바탕"/>
              </a:rPr>
              <a:t>Desarrollo de un modelo para el diseño de licitaciones aplicado en el ministerio de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842920" y="259920"/>
            <a:ext cx="601956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92929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92929"/>
                </a:solidFill>
                <a:latin typeface="Arial"/>
              </a:rPr>
              <a:t>Facultad de Ciencias Físicas y Matemática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92929"/>
                </a:solidFill>
                <a:latin typeface="Arial"/>
              </a:rPr>
              <a:t>Departamento de Ingeniería Industrial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92929"/>
                </a:solidFill>
                <a:latin typeface="Arial"/>
              </a:rPr>
              <a:t>Magíster en gestión de operacion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885080" y="260280"/>
          <a:ext cx="83808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5080" y="260280"/>
                    <a:ext cx="8380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4859280" y="4581360"/>
            <a:ext cx="514836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292929"/>
                </a:solidFill>
                <a:uFillTx/>
                <a:latin typeface="Arial"/>
              </a:rPr>
              <a:t>Alumno</a:t>
            </a:r>
            <a:r>
              <a:rPr b="0" lang="es-ES" sz="1600" spc="-1" strike="noStrike">
                <a:solidFill>
                  <a:srgbClr val="292929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92929"/>
                </a:solidFill>
                <a:latin typeface="Arial"/>
              </a:rPr>
              <a:t>Matías Pulido Solar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292929"/>
                </a:solidFill>
                <a:uFillTx/>
                <a:latin typeface="Arial"/>
              </a:rPr>
              <a:t>Profesor guía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92929"/>
                </a:solidFill>
                <a:latin typeface="Arial"/>
              </a:rPr>
              <a:t>Samuel Varas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292929"/>
                </a:solidFill>
                <a:uFillTx/>
                <a:latin typeface="Arial"/>
              </a:rPr>
              <a:t>Fecha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92929"/>
                </a:solidFill>
                <a:latin typeface="Arial"/>
              </a:rPr>
              <a:t>20-10-04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바탕"/>
              </a:rPr>
              <a:t>Licitación actual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Horizontes cortos de tiempo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Bases no consideran algunos trade off como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16080" indent="-378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Número de proveedores v/s probabilidad quiebre stoc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16080" indent="-378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Número de proveedores v/s volumen a negoci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16080" indent="-378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Cantidad a licitar v/s costo stoc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Modalidad actual provoca pocas oferta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Multas mal dimensionada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No existe un modelo formal de evaluación para la adjudicación (fuera del alcance del tema de tesis)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Posibles enfo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Programación matemátic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Función objetivo que incorpore trade-off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Restricciones a estudi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Considerando información históric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Benchmark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Considerando programas similares a nivel internacional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Analizando implicancias de determinados diseño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Bibliografía consul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“</a:t>
            </a: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Programación entera mejora el proceso de licitación de raciones alimenticias”. Epstein, Henriquez, Catalán, Weintraub y Martinez. Marzo, 2001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“</a:t>
            </a: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The design of auctions and tenders with quality thresholds: The symmetric case”. Martin Cripps, Norman Ireland.1994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“</a:t>
            </a: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Auctions and bidding: A primer”. Paul Milgrom. Journal of Economics perspectives. Volumen 3, Número 3. 1989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Bases administrativas productos PNAC y PACAM, 30 de Abril de 2004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Carta Gan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egunt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68360" y="3141720"/>
            <a:ext cx="48247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바탕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Introducció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Descripción del problem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Posibles enfoqu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Bibliografía consultad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Carta gant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64000" y="1916280"/>
            <a:ext cx="22957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Licitaciones de servicios públicos: una tendencia mundial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Licitación eficient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Gana la mejor ofert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Valores privad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Resultados equivalentes sin importar modalidad de licitación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2 etapas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Diseñ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Adjudicació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71640" y="1773360"/>
          <a:ext cx="7151760" cy="4573440"/>
        </p:xfrm>
        <a:graphic>
          <a:graphicData uri="http://schemas.openxmlformats.org/drawingml/2006/table">
            <a:tbl>
              <a:tblPr/>
              <a:tblGrid>
                <a:gridCol w="1903320"/>
                <a:gridCol w="2863800"/>
                <a:gridCol w="2384640"/>
              </a:tblGrid>
              <a:tr h="1099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Etapa</a:t>
                      </a: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Desafíos</a:t>
                      </a: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Características estudios previos realizados</a:t>
                      </a: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2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Diseño</a:t>
                      </a: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Bases atractivas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Incentivos a cumplir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Bases orientadas a la        reducción de costos de L.P.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Económicos (teoría de agencia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Técnicos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23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Adjudicación</a:t>
                      </a: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Asignación proveedor óptimo.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Operaciones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Económicos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Técnicos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51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Licitación de programas de alimentación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PNAC: Orientado a mujeres embarazadas, nodrizas de bajo peso y niños menores de 6 año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PACAM: Orientado a adultos mayore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Presupuesto anual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292929"/>
                </a:solidFill>
                <a:latin typeface="바탕"/>
              </a:rPr>
              <a:t>$30,000 millon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1655640" cy="1082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484360" y="3068640"/>
            <a:ext cx="1944720" cy="1276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932360" y="2995560"/>
            <a:ext cx="1206360" cy="1486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979640" y="3571920"/>
            <a:ext cx="288720" cy="216000"/>
          </a:xfrm>
          <a:prstGeom prst="rightArrow">
            <a:avLst>
              <a:gd name="adj1" fmla="val 50000"/>
              <a:gd name="adj2" fmla="val 33417"/>
            </a:avLst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634080" y="3067200"/>
            <a:ext cx="1216080" cy="1223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7570800" y="2851200"/>
            <a:ext cx="1573200" cy="1000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7929720" y="3859200"/>
            <a:ext cx="849240" cy="1189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300720" y="3571920"/>
            <a:ext cx="289080" cy="216000"/>
          </a:xfrm>
          <a:prstGeom prst="rightArrow">
            <a:avLst>
              <a:gd name="adj1" fmla="val 50000"/>
              <a:gd name="adj2" fmla="val 33458"/>
            </a:avLst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3571920"/>
            <a:ext cx="289080" cy="216000"/>
          </a:xfrm>
          <a:prstGeom prst="rightArrow">
            <a:avLst>
              <a:gd name="adj1" fmla="val 50000"/>
              <a:gd name="adj2" fmla="val 33458"/>
            </a:avLst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02400" y="530064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1.100.000 beneficiario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3960" y="4651200"/>
            <a:ext cx="22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481 Consultorio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1161 Postas rurale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59640" y="1700280"/>
            <a:ext cx="26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92929"/>
                </a:solidFill>
                <a:latin typeface="바탕"/>
              </a:rPr>
              <a:t>Cadena logístic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43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Productos entregados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PNAC: Leche fortificada, leche cereal y sopa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PACAM: Sopa crema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42920" y="3213000"/>
          <a:ext cx="6769080" cy="33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213000"/>
                    <a:ext cx="676908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65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Importancia del rol de proveedore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Social: Gravedad de quiebres de stock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Económico: Importancia en estructura de costo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87280" y="3095640"/>
            <a:ext cx="6481800" cy="3762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676120" y="3789360"/>
            <a:ext cx="346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Se licita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$27,000 millones!!!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Licitación actual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Se licita mediante 2 modalidade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Distribución direct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Distribución por CENABAST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División geográfica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Distribución directa: 4 zonas independiente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Distribución por CENABAST: No existe división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Adjudicación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Comisión decida cualitativament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Se considera principalmente precio y comportamiento anterior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Se adjudica modalidad más convenient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5:20:33Z</dcterms:created>
  <dc:creator>Juan Pablo Torres</dc:creator>
  <dc:description/>
  <dc:language>en-US</dc:language>
  <cp:lastModifiedBy>julie lagos</cp:lastModifiedBy>
  <dcterms:modified xsi:type="dcterms:W3CDTF">2004-10-22T14:10:31Z</dcterms:modified>
  <cp:revision>51</cp:revision>
  <dc:subject/>
  <dc:title>Diapositiva 1</dc:title>
</cp:coreProperties>
</file>